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EB0-D61E-440F-9189-6C3617D5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4AF-FF6E-47D1-8466-58348F1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958-83D3-4369-86AA-C2F377D2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65D-B2A3-4468-9E28-71391C6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B11-2E58-4587-90A2-A0B0947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BE9-41F0-4E8D-98CB-813BF187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053-E8A5-4A9C-BCDB-3BF88316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AB3-AE99-4F6F-8EA0-5B542167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E4D-DCE6-4390-8ED2-BA788EEC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753-EDB8-489F-98E8-723B2AA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7DB-AC06-46EF-A932-73D708D4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0E1-266B-4AEB-92FD-E3E706A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60F-BAC0-4827-BC39-D0ADBC21F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9/USA_09847_Grand_Canyon_Luca_Galuzzi_200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eth, Fisher, and 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25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406760"/>
            <a:ext cx="3429000" cy="2451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35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o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Tex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dalupe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ile:USA 09847 Grand Canyon Luca Galuzzi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9810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2520" y="5410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enix,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81480" y="2743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own in Austin, Te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162560" y="3048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048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6320" y="519732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20712" y="14436"/>
                </a:moveTo>
                <a:cubicBezTo>
                  <a:pt x="20720" y="14436"/>
                  <a:pt x="20729" y="14436"/>
                  <a:pt x="20737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5715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map of the 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1:00Z</dcterms:created>
  <dc:creator>fisherlucas</dc:creator>
  <dc:description/>
  <dc:language>en-US</dc:language>
  <cp:lastModifiedBy>fisherlucas</cp:lastModifiedBy>
  <dcterms:modified xsi:type="dcterms:W3CDTF">2009-04-14T13:33:21Z</dcterms:modified>
  <cp:revision>6</cp:revision>
  <dc:subject/>
  <dc:title>Southwest</dc:title>
</cp:coreProperties>
</file>